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152714"/>
        <c:axId val="81306190"/>
      </c:barChart>
      <c:catAx>
        <c:axId val="461527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06190"/>
        <c:crosses val="autoZero"/>
        <c:auto val="1"/>
        <c:lblAlgn val="ctr"/>
        <c:lblOffset val="100"/>
        <c:noMultiLvlLbl val="0"/>
      </c:catAx>
      <c:valAx>
        <c:axId val="813061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527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9622-204D-4EAD-827C-9908EBBF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A522-A201-4E16-A16A-EDA57350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1395-3A05-46B1-B572-20C6BBE3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0FCF-A1C3-4571-B290-9506041F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7CB5-1331-4D7E-91CD-B9D28228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6673-F908-414A-8DE3-80CA65F2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627-97BE-4D7A-BF9E-164BF134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D8AA-9386-4559-831F-DECF4684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8367-D3EA-406E-84E5-F44B895C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C769-60A3-4BFF-A137-65626AC8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D712-996C-44CC-8411-499D37A9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C74-528D-4394-9F5B-D14A3C30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CB5E9-860F-40C1-97A9-6A4EF2384E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