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13375"/>
        <c:axId val="20597136"/>
      </c:barChart>
      <c:catAx>
        <c:axId val="79213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97136"/>
        <c:crosses val="autoZero"/>
        <c:auto val="1"/>
        <c:lblAlgn val="ctr"/>
        <c:lblOffset val="100"/>
        <c:noMultiLvlLbl val="0"/>
      </c:catAx>
      <c:valAx>
        <c:axId val="20597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13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34A-A663-422C-894F-CC5A5A40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A41-ACC1-4682-9777-0FC65FB1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3F0-76D1-44BE-BD3C-F2A8D962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F82-5B47-4B80-A146-23FE79B0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4A8-0929-46C1-AB9C-6704B1D7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FB3-7E1C-4A81-B880-E751ABF0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5EA-6DAD-40D7-8C94-152538F3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062-8E7F-4777-97A1-1D521DF1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498-7ED5-4292-9703-A1566A3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EDA-29B4-4E60-8EC6-B267A0CA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B99-D0CA-484C-B237-5A39BA9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0E3-BDDE-4A79-80D0-77B7A434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7E819-711A-48B6-8E8A-E4950EC121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