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205399"/>
        <c:axId val="73041074"/>
      </c:barChart>
      <c:catAx>
        <c:axId val="682053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041074"/>
        <c:crosses val="autoZero"/>
        <c:auto val="1"/>
        <c:lblAlgn val="ctr"/>
        <c:lblOffset val="100"/>
        <c:noMultiLvlLbl val="0"/>
      </c:catAx>
      <c:valAx>
        <c:axId val="730410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2053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A06E-19EE-4EB6-BC7F-21EAB199F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6583-2A05-4BC3-B789-B766991E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F169-8BEF-4B65-A1E8-AAE55CCBE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8F10-1EC2-49FF-893E-ABAA74254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A6E3-534F-4148-A4E4-95F6635D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749E-E553-4E07-9A7C-CFC5F5B7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055E-32D1-43FC-B349-7B609484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F6F3-37A6-4544-952C-85F8F4F4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FF64-3757-4D87-AE1E-31280189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FD41-3CDE-4DC3-B11A-4804FDE0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CF1F-382D-4878-99CF-79372771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B908-ABE2-48CD-A7F0-77EEC909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06BDE8-36E9-4C53-B570-871DC18D77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